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F2D-15DD-4C7E-9054-913EBB6D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A2F9-4941-4B8D-B445-8D45EA5A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284-9AEE-4874-8268-85C7DA6C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460-2E6C-46E3-B059-95F2B33A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74D0-D342-4E80-A5CF-EBCD2610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9FF2-4919-4458-9C79-C3913BF6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26A3-7871-400F-9EC2-85C730F5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46D4-141A-440B-AA6F-7A23CE66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E708-6607-4040-B9AB-A354869B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534A-6622-4DF7-BAED-3FC86A02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B325-43CB-4869-A3A5-02A6A56E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DF2-6F72-47AF-A0EC-C0F20AD6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D6A5-F46B-4FC5-8B00-1F8E0B31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5C4D-7942-4F22-800A-43F6E2EC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BBC1-CB68-4885-86A3-07C7EEA2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682C-1405-4124-BAE8-CB6FEA64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9974-7336-4C32-906C-405F7135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70673-D866-4C74-B885-626B450F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EE4BB-EC57-4132-89D3-8262BAD2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23E13-A095-4B71-A533-F1B36064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0C448-0F7B-44DE-AA7E-549E887E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7EE54-1876-44F4-8AD9-2BF30BB6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148-671A-49BC-A8CB-1B2CF578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3B109-BD3A-4404-93C0-21F5F14F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B519F-37B2-47A1-B772-BAE1FFDE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161B2-ED59-474B-A51B-417AD335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72085-3970-480C-9EBE-198125B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D9188-89F3-43F4-A819-F4DA4AD0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F2DA5-FBDB-4F7D-84C3-4D869CE5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3FEED-B842-4987-BDEE-E5AB4D7A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4F151-A803-4DCD-B1F6-BED4127C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A997C8-7CBA-46E7-9C54-E273075F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9725B-D0B7-42DC-873C-3E12119F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2C6-4B62-47B8-94EA-A0AB9BBE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4D53BE-AFE9-4A0E-B1FE-5A9C8811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7FD7B4-C4D0-4BCA-B0BF-E7DE56A3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8589E-EB22-4415-825C-FD4B770F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E8F780-EAB5-4386-B543-D78A8E61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87B00-FA70-4D10-A7FC-B7389251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BD2DA8-674A-40E1-8DA2-E6D04F0C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C84473-630F-4CDF-BD26-44CACEC9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E293A-6461-4519-B3D4-992B4970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C1892F-D6F9-4DC5-A27D-2D43E1C6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8FF65-EE2A-48F4-9EE9-769400D0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56D-95DC-44BD-AC6A-5157941A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F4D9BB-B366-4DC1-83EC-7E6C34B6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64CF6-F07A-4B31-9A57-51C51C22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F2046-48F6-4E4D-BBF2-4F86A174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29F0B-A7CD-41E8-85E8-2DDED164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1777E-A2F4-417E-AE11-E36AD93A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F5EB7-A48C-4249-A7F1-50AD0C01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4EE14-CCED-4F27-8935-35FAFE27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37B81-2E0F-402C-B9B3-C55A082A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3553FC-1B56-4BA2-8ACB-64D15EA3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D2866-F6C4-4364-AECB-356CA271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8C9-1704-4582-9360-A1AA79C1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2CBE5-F032-4BDC-B441-28CD6DB1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76989-7324-455F-ACA8-D4318D3C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EAA56-AFD3-4C10-8743-07CEEDAF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45A83-0413-4B19-9544-0917CFE2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295CC-2660-47DC-9D6C-AC3E0765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667DC-A12C-4D03-AC21-569246FC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02F46-F565-4374-9937-BC177A32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5AB62-5EA3-4753-AD33-98A4C7B4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545CA-BC4C-4420-B9E9-E3D3119A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60CB8-DA30-4A22-860C-D9AD32A1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37B-940D-44C6-BED6-4B816C52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F47CF-6EE6-4ABA-BB65-406A164C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1D457-C278-4CED-9B2D-C229D4C7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2B420-4974-44DC-A88A-4E59FB56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06EEA1-9171-4642-9D0B-0F2BD4AC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A87316-1ECB-436A-9A0A-CE6C090A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2CF44-A646-4877-AAFE-3F625884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4E2A7-2FAF-4399-9FD0-4CA8F15C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D1BC0-5414-41C2-9F9B-6615F05C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93997-FE75-4BBF-BC36-1F0E9609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7E469C-6404-4299-B7DA-7FB29C5E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551-4977-44C5-9506-69139402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0A5D71-7395-437D-8086-FF36FCAC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8164A7-2272-4BD8-BD3A-09F666B0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2BD8C-AEA9-45F3-8027-DC14031B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8AA77F-B4D3-47AB-8B98-95D8C25F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0E23B9-740F-4A26-9FBD-267C0B2A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6E43B-49F9-4D8E-A324-58FAEF56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63B4E-9E5C-4889-9783-9CF30C12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896A9-F37A-4184-AE1E-F38D0E5E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25A0F-7310-40A6-8885-F07D4538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4587D-CF1A-4EC0-899C-B33B5F93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6A1-25F4-4929-B427-DEB1DFE4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FC30F-26FC-4C6C-BD34-9438291A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69AC6-63E5-4CA5-BF32-D1CE29D7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D5917-BACA-41BF-AEB1-422A8380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86E3F-EB2D-4A5D-A958-9C8C9B58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47C44-C155-4C28-855F-D53B77C4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5BD29-3525-4C9C-8C89-DFBD35E2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1F62E-B8EB-4ED9-BD08-96071386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AAD8-B138-465B-BEDF-340F2AF2F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A3EB-A7E2-4BB5-AE1C-16D889605212}" type="slidenum"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BC10-7E92-4DC2-81C7-6C1F2849BE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BAC9-B28C-4CF8-8BE9-DC2FF61C0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F2D7-187D-448B-9DC2-364532431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708F-00A5-4E2E-B8E2-04562D97618A}" type="slidenum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36D2-5B25-47AF-9A68-DFEAEE7BCDD7}" type="slidenum"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DFBE-0BC0-456A-B8F2-B15264FC4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ddc3"/>
                </a:solidFill>
                <a:latin typeface="Tw Cen MT"/>
              </a:rPr>
              <a:t>GUEST SERVICE</a:t>
            </a:r>
            <a:br>
              <a:rPr sz="3600"/>
            </a:br>
            <a:endParaRPr b="0" lang="en-US" sz="6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32857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14" descr="j0197795[1]"/>
          <p:cNvPicPr/>
          <p:nvPr/>
        </p:nvPicPr>
        <p:blipFill>
          <a:blip r:embed="rId1"/>
          <a:stretch/>
        </p:blipFill>
        <p:spPr>
          <a:xfrm>
            <a:off x="2857680" y="1928880"/>
            <a:ext cx="3330360" cy="3672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Melior_Business_School.PNG"/>
          <p:cNvPicPr/>
          <p:nvPr/>
        </p:nvPicPr>
        <p:blipFill>
          <a:blip r:embed="rId2"/>
          <a:stretch/>
        </p:blipFill>
        <p:spPr>
          <a:xfrm>
            <a:off x="0" y="5910120"/>
            <a:ext cx="2670120" cy="9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erbal Means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8047"/>
                </a:solidFill>
                <a:uFillTx/>
                <a:latin typeface="Tw Cen MT"/>
              </a:rPr>
              <a:t>Listening:</a:t>
            </a:r>
            <a:r>
              <a:rPr b="0" lang="en-US" sz="2400" spc="-1" strike="noStrike">
                <a:solidFill>
                  <a:srgbClr val="dd8047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s is the only way a receiver can hear the message that the transmitter is sending, so employees can listen for subtle hints and signals a guest gives out during communic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employee creates a comfort level when they listen, and letting the guest initiate the tone of the conversation also puts him/her at ea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erbal Means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ailure to listen properly can cause proble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seven common listening errors ar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ailure to concentrat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istening too har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umping the gun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agging behind the convers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cusing too much on delivery or appear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mit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d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sual Mea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ommunicating visually is as important as communicating verbally, as visual communication can reinforce what is being said verball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he complete delivery of guest service can be accomplished by incorporating both mean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he rules for effective visual communication are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Communicate with a smil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Be aware of body languag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bserve the grooming standard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sual Means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8047"/>
                </a:solidFill>
                <a:uFillTx/>
                <a:latin typeface="Tw Cen MT"/>
              </a:rPr>
              <a:t>Communicate with a smile: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 genuine smile that accompanies a greeting or thank you reinforces the mess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miling at guests helps create a comfortable atmosphe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8047"/>
                </a:solidFill>
                <a:uFillTx/>
                <a:latin typeface="Tw Cen MT"/>
              </a:rPr>
              <a:t>Be aware of body language:</a:t>
            </a:r>
            <a:r>
              <a:rPr b="0" lang="en-US" sz="2400" spc="-1" strike="noStrike">
                <a:solidFill>
                  <a:srgbClr val="dd8047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bserving guest body language is like listening with eyes, it can give the employee clues on how to communicate with the gues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sual Means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mon body language signals include the following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rossed arms may indicate a defensive postur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 guest who leans across the front desk during conversation may be aggressiv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rong and consistent eye contact may indicate confide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rong firm handshakes may also indicate confide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d eyes may indicate fatigu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sual Means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8047"/>
                </a:solidFill>
                <a:uFillTx/>
                <a:latin typeface="Tw Cen MT"/>
              </a:rPr>
              <a:t>Observe appropriate grooming standards: </a:t>
            </a:r>
            <a:r>
              <a:rPr b="0" lang="en-US" sz="2400" spc="-1" strike="noStrike">
                <a:solidFill>
                  <a:srgbClr val="dd8047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tel employees are viewed as an extension of the hotel so a guest’s perception of an employee can contribute to the guest’s overall perception of the hot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first and often most long lasting perception a guest makes on an employee is the employee’s appearance, so most hotels have instituted grooming standa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uest Service Manage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he guest service philosophy of a hotel should be communicated consistentl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his communication should begin with the first day of employee orientation where all new employees should be given the hotel’s service philosoph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75f55"/>
                </a:solidFill>
                <a:latin typeface="Tw Cen MT"/>
              </a:rPr>
              <a:t>Guest Service Management (Cont...)</a:t>
            </a:r>
            <a:endParaRPr b="0" lang="en-US" sz="3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Guest service training continues beyond orientation and introduction of the service mission statement, and should be constan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Larger hotel chains have complete divisions at a corporate level dedicated to creating and implementing guest service program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tivating for Guest Serv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otivating employees to embody the service mission statement in their day-to-day duties helps ensure guest satisfa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good way to motivate is through guest feedback, and most hotels have some version of a comment card in the guest roo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se cards encourage guests to rate and/or rank the services received during his/her sta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y also solicit the names of employees that have impacted the guest’s sta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ents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66280" y="20412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rvice Standar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Guest Conflict Resolu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Empowermen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versity Awaren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nternational Gues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anagement’s Role in Guest Servic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75f55"/>
                </a:solidFill>
                <a:latin typeface="Tw Cen MT"/>
              </a:rPr>
              <a:t>Motivating for Guest Service (Cont..)</a:t>
            </a:r>
            <a:endParaRPr b="0" lang="en-US" sz="3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mployees or departments that are mentioned should be rewarded or recognized in some wa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employees can be proud of these rewards and a healthy competition can ensue to see which employees can get the most rewa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Guest satisfaction is crucial in maintaining loyalty.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Guest loyalty ensures repeat business. 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rvice Standa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w Cen MT"/>
              </a:rPr>
              <a:t>Guest service is paramount to hotel succes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w Cen MT"/>
              </a:rPr>
              <a:t>Guest interaction defines guest servic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erbal Mea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Verbal communication allows for gaining insight into a gues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The most important verbal tools in ensuring guest satisfaction are perhaps the simples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he basic rules for verbal communication are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Use an appropriate greeting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Personalize the conversation (use the guest’s name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Thank the gues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Liste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erbal Means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8047"/>
                </a:solidFill>
                <a:uFillTx/>
                <a:latin typeface="Tw Cen MT"/>
              </a:rPr>
              <a:t>Use an appropriate greeting:</a:t>
            </a:r>
            <a:r>
              <a:rPr b="0" lang="en-US" sz="2400" spc="-1" strike="noStrike">
                <a:solidFill>
                  <a:srgbClr val="dd8047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mployees should greet every guest appropriately whether in person or over the phon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y should identify the time of day: “Good morning/afternoon/evening”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greeting a guest over the phone, an employee should also include their name and department: “Good morning, front desk, this is John, how may I help you?” This reassures the guest that they have reached the appropriate departm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erbal Means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8047"/>
                </a:solidFill>
                <a:uFillTx/>
                <a:latin typeface="Tw Cen MT"/>
              </a:rPr>
              <a:t>Personalize the conversation:</a:t>
            </a:r>
            <a:r>
              <a:rPr b="0" lang="en-US" sz="2400" spc="-1" strike="noStrike">
                <a:solidFill>
                  <a:srgbClr val="dd8047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s helps to set a relaxed tone in the conversation, however using an appropriate title (i.e., Mr. or Ms.) is importa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uring check-in or checkout, the guest account will let the employee know the guest’s na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ny phone systems will identify the guest’s name and room number, as will many PMS syste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uests greeted by name are subtly reminded that the hotel values their business </a:t>
            </a:r>
            <a:r>
              <a:rPr b="0" lang="en-US" sz="2400" spc="-1" strike="noStrike">
                <a:solidFill>
                  <a:srgbClr val="dd8047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erbal Means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8047"/>
                </a:solidFill>
                <a:uFillTx/>
                <a:latin typeface="Tw Cen MT"/>
              </a:rPr>
              <a:t>Thank the guest:</a:t>
            </a:r>
            <a:r>
              <a:rPr b="0" lang="en-US" sz="2400" spc="-1" strike="noStrike">
                <a:solidFill>
                  <a:srgbClr val="dd8047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anking the guest in a sincere manner is also very importa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mployees may conduct a variety of guest services in a day, and each of these transaction should be completed with a “thank you”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anking a guest for staying at a hotel also implies that the hotel appreciates their busine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2T03:03:47Z</dcterms:modified>
  <cp:revision>139</cp:revision>
  <dc:subject/>
  <dc:title>FRONT OFFICE OPERATIONS MANAGEMENT</dc:title>
</cp:coreProperties>
</file>